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CE31-D223-4FE1-9395-70C85D5A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FB8A-0188-4974-BACD-069CEE44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3AC-368B-4CB5-83E4-6B08BDA3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E9C1-38FB-486A-AADB-FA26B66C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DF89-816A-415E-A138-5547BD5E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0FC0-44B4-41A8-A302-B519E9B1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7401-89CE-4FE0-B44A-25EF96FB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27E2-56B8-47F3-9FBF-E6EAD977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0496-D8D9-4BFB-92DE-A43D529B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80A9-2DB2-473E-979C-25C1BA94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2010-1C17-4EF3-A2A9-C036323D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74AE-BFCB-4B3A-A4E4-ED7F23C6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0979-2072-4A3C-BAF3-B1DF3220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5C70-127A-4B58-A6DB-46E829D3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1D58-D14E-4D85-BE33-DD9AA42E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BEBD-2BE1-4579-8388-4BAA46B7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A583-E02D-4F15-A3F4-1D6C0A93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A0E-DE33-47DD-8E16-136AE969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8F49-E429-466C-8B39-9CB69001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037-05C4-462B-BE8A-2C6DD92D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0C60-7A1B-4979-9EE0-E3339738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CDCB-D745-4EC0-8186-3FA5512E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AB53-126C-4735-8A07-E035E858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6875-DC7A-4807-8AF8-5BF5933D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748A-6BC5-48A8-A293-2847ED20AC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52A3-EC2A-456A-A2DF-0DB72E8FB1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Geometry 1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nday, August 23, 201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ind, communicate and evaluat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l work:  Using at least three complete sentences, please explain how much time you spent preparing for this exam and HOW you prepared for this ex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de H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terns and Logic QU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Geometry 1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uesday, August 24, 2010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se segment postu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se the distance formula to measure di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ll Wor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Evaluate | 4-7| and |4.3 -1.2|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-Patterns and Log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Geometry 1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ursday, August 26, 201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se segment postul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se the distance formula to measure di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ll Wor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(In your own words) What is the difference between collinear points and coplanar poin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g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s of seg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gnment:  Lesson 1.3, problems 1-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gles and Their Mea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gnment: Lesson 1.3, 1-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Geometry 1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ursday, August 27, 2009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ngle postu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fy angles as acute, obtuse or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L 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ines segments with equal measures 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 A pair of opposite rays form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HW 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s and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: Lesson 1.3, 1-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08-24T19:49:22Z</dcterms:modified>
  <cp:revision>23</cp:revision>
  <dc:subject/>
  <dc:title>Slide 1</dc:title>
</cp:coreProperties>
</file>